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E521-BDEF-4F7C-ABEA-27C7C7136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3693-8AAD-4619-BB4E-E962C6378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ACE5-FE2B-4544-B26C-4D604044C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0D026-33F0-47CD-9C7A-903006EA6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62FD-B4CE-4F2A-92E3-0C055492E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C5F4-2536-4A1A-A79C-C06ACC173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0D70-7CBC-4471-886F-2E945DF66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4107-D382-480E-AECE-48E3B7EF4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BC24-D891-436D-81C0-24353E899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CB5A-DAC2-4311-8FEE-577D16032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F2227-475C-47E2-B7C4-1870E5122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E1ED-A6CA-4833-87AF-721EE2E64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2F810-A53D-48C3-8E31-65CD796BC4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4394160" cy="4929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916360" y="260280"/>
            <a:ext cx="57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Mini-BHKW‘s (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B</a:t>
            </a: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lock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H</a:t>
            </a: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eiz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K</a:t>
            </a: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raft</a:t>
            </a:r>
            <a:r>
              <a:rPr b="1" lang="de-DE" sz="2400" spc="-1" strike="noStrike">
                <a:solidFill>
                  <a:srgbClr val="333399"/>
                </a:solidFill>
                <a:latin typeface="Arial"/>
              </a:rPr>
              <a:t>W</a:t>
            </a:r>
            <a:r>
              <a:rPr b="0" lang="de-DE" sz="2400" spc="-1" strike="noStrike">
                <a:solidFill>
                  <a:srgbClr val="333399"/>
                </a:solidFill>
                <a:latin typeface="Arial"/>
              </a:rPr>
              <a:t>erk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50920" y="260280"/>
            <a:ext cx="3170160" cy="5400720"/>
            <a:chOff x="250920" y="260280"/>
            <a:chExt cx="3170160" cy="540072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250920" y="260280"/>
              <a:ext cx="2374920" cy="266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 flipH="1" flipV="1">
              <a:off x="1547640" y="2708280"/>
              <a:ext cx="1873440" cy="295272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3708360" y="1413000"/>
            <a:ext cx="5257800" cy="4903560"/>
            <a:chOff x="3708360" y="1413000"/>
            <a:chExt cx="5257800" cy="4903560"/>
          </a:xfrm>
        </p:grpSpPr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5796000" y="1413000"/>
              <a:ext cx="3170160" cy="357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5580000" y="5300640"/>
              <a:ext cx="33847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2400" spc="-1" strike="noStrike">
                  <a:solidFill>
                    <a:srgbClr val="000000"/>
                  </a:solidFill>
                  <a:latin typeface="Comic Sans MS"/>
                </a:rPr>
                <a:t>BHKW‘s erzeuge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ff0000"/>
                  </a:solidFill>
                  <a:latin typeface="Comic Sans MS"/>
                </a:rPr>
                <a:t>Heizwärme</a:t>
              </a:r>
              <a:r>
                <a:rPr b="0" lang="de-DE" sz="2400" spc="-1" strike="noStrike">
                  <a:solidFill>
                    <a:srgbClr val="000000"/>
                  </a:solidFill>
                  <a:latin typeface="Comic Sans MS"/>
                </a:rPr>
                <a:t> &amp; </a:t>
              </a:r>
              <a:r>
                <a:rPr b="1" lang="de-DE" sz="2400" spc="-1" strike="noStrike">
                  <a:solidFill>
                    <a:srgbClr val="00cc00"/>
                  </a:solidFill>
                  <a:latin typeface="Comic Sans MS"/>
                </a:rPr>
                <a:t>Stro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V="1">
              <a:off x="3708360" y="3428640"/>
              <a:ext cx="2376360" cy="2087640"/>
            </a:xfrm>
            <a:prstGeom prst="line">
              <a:avLst/>
            </a:prstGeom>
            <a:ln w="633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8T09:53:15Z</dcterms:created>
  <dc:creator>BZTG</dc:creator>
  <dc:description/>
  <dc:language>en-US</dc:language>
  <cp:lastModifiedBy>BZTG</cp:lastModifiedBy>
  <dcterms:modified xsi:type="dcterms:W3CDTF">2006-10-08T10:49:04Z</dcterms:modified>
  <cp:revision>6</cp:revision>
  <dc:subject/>
  <dc:title>Folie 1</dc:title>
</cp:coreProperties>
</file>