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1.jpeg" ContentType="image/jpeg"/>
  <Override PartName="/ppt/media/image20.jpeg" ContentType="image/jpeg"/>
  <Override PartName="/ppt/media/image17.png" ContentType="image/png"/>
  <Override PartName="/ppt/media/image32.jpeg" ContentType="image/jpeg"/>
  <Override PartName="/ppt/media/image16.png" ContentType="image/png"/>
  <Override PartName="/ppt/media/image14.jpeg" ContentType="image/jpeg"/>
  <Override PartName="/ppt/media/image22.jpeg" ContentType="image/jpeg"/>
  <Override PartName="/ppt/media/image38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19.jpeg" ContentType="image/jpeg"/>
  <Override PartName="/ppt/media/image25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54825" cy="96662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4400" cy="966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4760" y="-360"/>
            <a:ext cx="29700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010880" y="725400"/>
            <a:ext cx="4832280" cy="362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move the slid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Medium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9182160"/>
            <a:ext cx="297036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4760" y="9182160"/>
            <a:ext cx="29700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9757-2A6D-465E-8EF6-E49CFC63979B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 wurden im Rahmen der ökologischen Steuerreform als besonders förderungswürdig eingest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ährend konventionell erzeugte Energie verteuert wurde, erhalten die Betreiber von Mini-BHKWs beträchtliche staatliche Zuschüsse und steuerliche Vorteil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efreiung von der Stromsteuer: 2,0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en selbst erzeugten und genutzten Stro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tattung der Mineralölsteuer: 0,55 Cent/kW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das im BHKW eingesetzte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etwa 15 bis 20 % des Gaspreis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üssiggas 60,0 €/1000 k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onus von 5,11 Cent/kWh zusätzlich zur gesetzlich festgelegten 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rd vom örtlichen Energieversorgungsunternehmen gezah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geben von der Kreditanstalt für Wiederaufbau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bäudesanierungsprogramm oder CO2-Mind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eine gewerbliche Nutzung Förderung durch das KfW-Umweltprogramm möglich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durch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ringere Strom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sparungen ergeben sich aus dem Erlö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  <a:ea typeface="Arial"/>
              </a:rPr>
              <a:t>Je höher die Betriebsstundenzahl des Mini-BHKWs im Jahr ist, umso größer ist auch der Erlös aus der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Die patentierte Leistungsmodulation des ecopower Mini-BHKWs ermöglicht eine bis zu 60% höhere Stromproduktion als Geräte mit konstanter Leistung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eiber profitieren von steigenden Stromprei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gesparte Stromkosten liegen höher als die Einspeisevergü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ier ergibt sich der Erlös aus der Einsparung, die dadurch erzielt wird, dass der Strom nicht beim Versorger gekauft werden muss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Je höher die Preise, desto höher die Einspa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etzlich festgelegte Einspeisevergütung steigt ebenfalls mit dem Strompreis (Stand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</a:rPr>
              <a:t>3. Quartal 2005: 4,387 Euro-Cent je Kilowattstund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leichzeitig muss die produzierte Wärme für einen energiesparenden Betrieb mitgenutz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deutet: Gebäude mit ausreichend hohem ganzjährigen Strom- und Wärmebedarf sind für den Mini-BHKW Einsatz geeign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ubau und Modernisierung v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, 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itere Gebäude mit ganzjährigem Strom- und Wärmebedarf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finition nach §3 KWKModG: „Gleichzeitig Umwandlung von eingesetzter Energie in elektrische Energie und Nutzwärme in einer ortsfesten technischen Anlage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chanische Energie des Motors wird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lektrische Energie umgewandelt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ung der entstehenden Abwärme zur Heizung und Warmwasserberei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ttenwärmetauscher koppeln die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Generator, im Motorkühlwasser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d –öl enthaltene Wärme au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r zusätzlicher Wärmegewinn durch Brennwerttechnik auf Erdga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passung der Mini-BHKW-Leistung an den tatsächlichen 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öglich durch variable Motor-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hindert vorzeitiges Abschalten des Mini-BHKWs aufgrund zu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re Wartungskosten durch reduzierte Motortak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 höhere Anzahl von Betriebsstunden pro Jahr als bei Geräten mit konstanter 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hrt zu einer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irtschaftlicher Einsatz auch in Objekten mit geringerem 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konstant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Mini-BHKW liefert nur ein Drittel der maximalen geforderten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onstante thermische und elektrische 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ohe Taktung des Motors, insbesondere bei geringer Leistungsanford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ank Modulation können auch niedrigere Wärmemengen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Abdeckung der Spitzenlasten mit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Heiz-Diagramm eines Mini-BHKWs mit variabler Drehzahl im monovalenten Betrie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Die geforderte Wärmemenge kann vollständig durch das Mini-BHKW abgedeck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Kein Spitzenlastkessel nöti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Thermische und elektrische Leistung sind variab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200" spc="-1" strike="noStrike">
                <a:solidFill>
                  <a:srgbClr val="000000"/>
                </a:solidFill>
                <a:latin typeface="Franklin Gothic Medium"/>
              </a:rPr>
              <a:t>Wenig Taktung des Motors das sich das Gerät an die Leistungsanforderung anpass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s und kostensparendes System für dezentrale Strom- und Wärme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eizung, Warmwasser und Strom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einem 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1200"/>
            </a:b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t patentierter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lektr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1,3 bis 4,7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hermische Leistung </a:t>
            </a:r>
            <a:br>
              <a:rPr sz="1200"/>
            </a:b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n 4,0 bis 12,5 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Wirtschaftlich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Wirkungsgrad über den gesamten Leistungsbere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assergekühlter Permanentmagnet-Generator zur Stromerzeu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irekt am Motorblock befestig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gelung der Motordrehzahl erfolgt über die Last des Generator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tor nutzt immer das optimale Drehmome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icht über Drosselklappe (siehe Motortechnik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eistungselektronik mit Pulsweitenmodul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 Drehzahl variierende Wechselspannung des Generators wird in netzsynchronen dreiphasigen Wechselstrom um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peziell entwickelter, wassergekühlter Gas-Verbrennungsmo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Erdgas oder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ales Leistungsvermögen durch immer vollständig geöffnete Drosselklapp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durch auch im Teillastbetrieb eine maximale Leistungsausbeu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rosselklappe mindert im geschlossenen oder teilgeschlossenen Zustand die Effizi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iedrige Emissionswerte durch Drei-Wege-Katalysator mit Lambda-Rege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genwärtig wirkungsvollstes Katalysatorensyste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gaswerte liegen 50% unter den Vorgaben der TA-Luf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ydraulische Stößel erübrigen die Ventileinstel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Verschleißfreier und geräuscharmer Start über den Generato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Reduzierte Wartungskos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sser und Batteri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artungsintensive Bauteile, daher reduzierte Wartungskosten und –auf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urch ein genau auf das Startverhalten abgestimmtes Startprogramm erse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Erhöhte Betriebs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ssere Widerstandsfähigkeit gegenüber Umwelteinflü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artet auch unter erschwerten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z.B. bei stark schwankender Gasqualität, hohem Luftdruck oder extremen Temperat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azu komm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utlich sanfteres Startverhal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Geringerer Energieverbrauch in der Startphase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 4-zeiliges Display mittels Dreh-/Druckknop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lle wichtigen Betriebswerte direkt abruf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pezielles Wärme- und Schalldämmgehäu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äuscharmer Betrieb und geringe Wärme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ntspricht höchsten Sicherheitsvorschriften (CE-Zertifiziert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uropa und Deutschl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prüft nach der strengen europäischen Gasgeräterichtlin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arallelbetrieb mehrerer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Objekten mit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 Geräte übernimmt die Steuerung der nachgeschalteten Mini-BHKWs (Master/Slave-Betrieb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lexible Aufrüstung bei gestiegenem Energiebrau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arke Energieversorgung für netzfreie Gebie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trieb mit Flüssig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ichere Stromversorgung in Netz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arbeitet das ganze Jahr über als Strom- und Wärmeerzeuger und schaltet nur im Bedarfsfall auf den Notstrombetrieb um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vestitions-, Betriebs- und Wartungskosten für separates Notstromaggregat entf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sätzlich zum ecopower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wechselrichter zum Aufbau eines ein- oder dreiphasigen Strom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atterieanlage zur Stromspeich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ühler zur Abführung der überschüssigen Wärme, die nicht mehr vom Speicher aufgenommen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infacher und schneller Zuga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 einem erfolgversprechenden Geschäftsfel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ür SHK- und Elektro- Hand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Umfassende Unterstüt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allen Bereichen des BHKW-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ulung und Qualifizi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anungsunterstützung und technische Bera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oftwarepaket für Inbetriebnahme und 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ttbewerbsvorteil: 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einziges Mini-BHKW a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gereiftes, fortschrittlich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reite Anwendungsmöglichk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Hohe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rund- bzw. Mittellastabdeckung durch Mini-BHKW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HKW Kann auch außerhalb der Heizperiode mit höchstmöglicher Leistung lauf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deckung von Spitzenlasten durch zusätzlichen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ärmespeicher zur Optimierung der BHKW-Leis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Stromanforderung anfallende Wärme wird im Speicher vorgehalten und später bei Bedarf genutz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onovalenter Betrieb bei ausreichend großem Pufferspeicher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as Stromnetz erfolgt in den meisten Fällen netzparall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lockheizkraftwerk wird an das lokale Stromnetz angeschlossen und speist überschüssigen Strom ei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ückspeisezähler wird zusätzlich zum Bezugszähler installiert, damit der eingespeiste Strom vergütet werden kan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om Generator erzeugte Wechselspannung variiert je nach der momentanen Motordrehzah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Über die Leistungselektronik wird die Spannung deshalb zunächst gleichgerichte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Und mit dem Aufwärtswandler in eine höhere Ausgangsspannung gewande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n Wechselrichter mit nachgeschaltetem Netzfilter formt diese in netzsynchronen dreiphasigen Wechselstrom u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nschlussfertige Liefer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 Verbindungen an der Geräterückwa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Anlieferung und Einbringung durch geringes Gewich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200 Kg leichter als der Wettbewerb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ufstellung und Anschlussarbeiten 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ie bei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indung in die Hydraulik des Heizungssystems,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stallation einer Gasanlage und Anschluss an die Gasregelstrecke des Mini-BHKW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ation der Abgasanla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etzanschluss kann von jedem Elektrofachmann durchgeführt werd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ird mit einer 5 x 1,5 mm²-Leitung über eine allpolige Trennstelle (L1, L2, L3, N) ausgefüh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bgesichert wird die Zuleitung mit 3 x 10 A; falls vom EVU vorgeschrieben, ergänzt durch einen Neutralleiter-Tren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 Inbetriebnahme mit ecoServ Softwa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lagenkonfiguration bei der Anlieferung bereits voreingestell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5-1998 Produktentwicklung in der Schwei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 Rahmen des Hybrid-Antriebs für den Sma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wickler/Erfinder Herr Daniel Ryhi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totyp 1995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7, 1998 Anpassung an die Marktbedürfnisse (Redesign um das Produkt flexibler einsetzbar zu machen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1998, 1999 Vorser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Übernah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itt als 100%ige Tochter der Vaillant Group die Nachfolge der Valentin Energie- und Umwelttechnik GmbH a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matische Anpassung an den Energiebedarf des Objek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Kein Regelaufwand für den Betreib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rechnung der optimalen Motordrehzahlen nach Heizkurve, zu erwartendem Strombedarf und Außentemperatu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ermanente Auswertung der Betriebsda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Integrierte selbstlernfähige Speicherbewirtschaf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Brauchwasseraufbereitung und Legionellenschutzfun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e Ausnutzung des Modulationsbereich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ch im Teillastbetrieb Wirkungsgrad von über 90 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igen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ini-BHKW erkennt selbstständig falsche hydraulische Einbind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nimmt den Betrieb erst wieder auf, wenn der Fehler behoben worden ist.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ringe Stillstandsverluste durch direkte Ansteuerung des Spitzenlast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aster/Slave-Betrieb mehrerer Anlagen bei höherem Leistungs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 alle 4000 Betriebsstunden bzw. einmal im Ja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chsel von Öl, Filtern und Zündkerze sowie Abgasmess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mfortable Wartungssoftware ecoServ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frage und Anpassung von Betriebszuständen und Anlagenfunktionen per Fernüberwach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Kalkulierbare Kosten für Wartung und Instandhal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fiziert und zertifiz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ehrtägige Schu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chrittweise Ausweitung der Kompetenzen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ßendienst neu organis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Anzahl der Vertriebsmitarbeiter und der technischen Berater deutlich erhöht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elle Betreu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Berater in Ger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Vertriebsingenieu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kaufsberater zur Kontaktaufnahme und Inform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Vaillant Vertriebsingenieure als kompetente Ansprechpartner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Technische Service-Hotlin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ei allen Fragen rund um bereits im Betrieb befindliche Mini-BHKWs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Mo – Do 7:00 bis 19:00 Uh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r bis 17:00 Uhr; Sa 10:00 bis 17:00 Uh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In der Heizperiode von September bis April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Bundesweiter </a:t>
            </a:r>
            <a:r>
              <a:rPr b="0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Werkskundendienst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lächendeckendes Netz von Service-Stützpunkt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törungsbeseitigung, Inbetriebnahme und Wartungsarbei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s geht um die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ontinuierliche Sicherung der Produktqualitä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s wesentliche Geschäftsbasi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t Hilfe der eigenen Engineering-Kompeten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Überprüfung der Produktleistung unter Einsatzbeding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n enger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ehleranalys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Implementierung der Ergebnisse in ..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erbesserung von Leistungsfähigkeit und Zuverlässigke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ende Produkt-Updat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bau Ölkühler, Software Update, Neuer Abgasschalldämpfer, Reduzierung von Ablagerungen durch beschichtete Ventile, Erhöhung der Lebensdauer der Schwingungsdämpfer, Einbau MES Öldruckschal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sentliche Ziele für dieses Jahr: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sbau des Fachpartnernetze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bau neuer Handwerksbetriebe als Fachpartn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umfassende Betreuung in allen Bereichen des BHKW- Geschäf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infacher, schneller Einstie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bei auch bestehenden Fachpartnern die Vermarktung wesentlich erleicht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e Produktoptimierung nach den Markterforderniss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gelungstechni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echnische Verbesserungen (Vereinfachung, weniger Verschleißteil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ptimierung der Produk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schließung neuer Märkte in Europa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Vorreiter Notstromversorgung: Unabhängige Stromversorgung durch Insellösungen in Gebieten in denen die Stromnetze nicht so zuverlässig / stabil si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lleinstellung in diesem Mar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wimmbad für optimalenStrom- und Wärmebedarf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lexibler Einsatz durch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ollständige Finanzierung über KfW-Kredi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lose Ergänzung des vorhandenen Gas-Heizkess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Zusätzlicher Erlös durch Stromverkauf an die Miet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coisland Insellösung für abgelegene Objekte ohne Stromnetz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chnologieführer im 5 kW Segment (elektrische Leistung) der dezentra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rtschrittliche Fernwart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ortschrittliches und ausgereiftes Produk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roduktleistung und –qualität werden fortlaufend kontrolliert und optimi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ge Zusammenarbeit mit den Fachpartner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undesweiter Vertrieb über Partner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etz von autorisierten und qualifizierten Fachbetrieb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mfassende Herstellerunterstützung (Vertrieb, Marketing, Servic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Unabhängigkeit und Sicherheit durch „eigenes Stromnetz“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Oft Verbundlösungen die zusammen addiert ideale Voraussetzungen biet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Nachhaltigkeit = Zukünftige Generationen sollen die gleichen Möglichkeiten und Voraussetzungen haben wie wi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ilt insbesondere in Bezug auf die zur Verfügung stehenden Ressourc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Problem: Steigender Energieverbrauch bei gleichzeitig sinkenden Vorräten fossiler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ntspricht nicht dem Nachhaltigkeitsgedank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och vorhandene Reserven an fossilen Energieträger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f Basis des gegenwärtigen Verbrauchs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rdöl - 4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as - 66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Steinkohle - 250 Jahre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eigt der Verbrauch weiter wie bisher, werden die Vorräte noch früher erschöpft sei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ngfristig wird Energie kostbar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Effiziente Energieerzeugung ist daher ein wichtiger Baustein für eine nachhaltige Entwick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102280" cy="434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 die Verbrennung von Kohle, Öl und Erdga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Trotz Kyoto-Protokol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iel: Industriestaaten verringern ihre Emissionen der sechs wichtigsten Treibhausgase bis zum Zeitraum 2008 bis 2012 insgesamt um mindestens fünf Prozent gegenüber 1990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reibhausgase führen zur Aufheizung der Atmosphär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Folgen in den nächsten 100 Jahren bei gleichbleibendem Trend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Temperaturerhöhung um 2 bis 5 °C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eeresspiegel steigen um 10-90 cm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wirkungen sind heute schon zu spüren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äufigere Dürren, Stürme und Überschwemmungen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Hochwasser-Katastrophe 2002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iehe New Orleans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Reduktion der Emissionen erforder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fragt sind daher Ansätze, die es ermöglichen Energie einzusparen und effizienter zu nutz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ezentrale Mini-BHKWs reduzier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re Energieerzeugung durch Kraft-Wärme-Koppl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Doppelte Nutzung der eingesetzten Energi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der Stromerzeugung entstehende Abwärme wird direkt vor Ort 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zur Warmwasserbereitung und Heiz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von über 9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emgegenüber steh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Hohe Verluste bei der konventionellen Energieversorgung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Getrennte Erzeug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tromerzeugung im Großkraftwerk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bwärme ungenutz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urchschnittlicher Wirkungsgrad 37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Dazu kommen Leitungs- und Transportverlus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Plus Wärmeerzeugung dezentral mit dem Heizkess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Bei Ŋ(el) von 36% und Ŋ(th) von 85%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Gesamtwirkungsgrad &lt; 60%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011240" y="725400"/>
            <a:ext cx="4832280" cy="362448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040" y="4591080"/>
            <a:ext cx="5025960" cy="43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Mini-BHKWs tragen zum Klima- und Ressourcenschutz bei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Weniger Energieverbrauch zur Bereitstellung von Strom und Wärm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Nachhaltigere Nutzung der schwindenden Rohstoffvorräte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Senken Primärenergieverbrauch um mehr als ein Drittel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iziente Brennstoffausnutzung ermöglicht parallel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1200" spc="-1" strike="noStrike">
                <a:solidFill>
                  <a:srgbClr val="000000"/>
                </a:solidFill>
                <a:latin typeface="Franklin Gothic Medium"/>
              </a:rPr>
              <a:t>-Emissionen um bis zu 60% möglich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Effektivste Stromerzeugungstechnologie, gemessen an der erreichbaren CO</a:t>
            </a:r>
            <a:r>
              <a:rPr b="0" i="1" lang="de-DE" sz="12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-Minderung pro eingesetztem Euro (ASUE)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Mini-BHKWs leisten wesentlichen Beitrag zum Umweltschutz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Laut Bundesregierung </a:t>
            </a:r>
            <a:r>
              <a:rPr b="0" i="1" lang="de-DE" sz="1200" spc="-1" strike="noStrike">
                <a:solidFill>
                  <a:srgbClr val="000000"/>
                </a:solidFill>
                <a:latin typeface="Arial"/>
                <a:ea typeface="Arial"/>
              </a:rPr>
              <a:t>wesentliche Voraussetzung, um die mittel- und langfristigen Klimaschutzziele zu erreichen</a:t>
            </a: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200" spc="-1" strike="noStrike">
                <a:solidFill>
                  <a:srgbClr val="000000"/>
                </a:solidFill>
                <a:latin typeface="Franklin Gothic Medium"/>
              </a:rPr>
              <a:t>Aus diesem Grund wird die effiziente Energieerzeugung mit Mini-BHKWs auch von staatlicher Seite gefördert</a:t>
            </a: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9C67-A6E1-48DA-AF7C-0ADEA21B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E05-17DF-40CD-829B-4E44A6C9B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DF8D-B789-49AD-92DF-A748D2F0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2B19-F01D-4E7A-83AB-E8D3AF930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5E426-0BAB-4083-B5DD-936F4D96E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690D9-F56C-4658-BDF8-62D4B9120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83548-7A60-42FF-872C-00AC91DA8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F918-EA68-4988-AE30-CABFF6CC9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F40EB-0C26-43FC-8363-0A2A9BD3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2D19A-6C16-45B9-863E-82456FF3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C6337-C231-40C2-91FF-7D21E1CDD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F12A-3EC7-4061-85AE-F541CA77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749F7-AA8B-4888-AD09-5503B29D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568F9-4B6E-4492-9DEA-1F3AD3EB4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95282-96E8-4983-A379-C5739F989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1EB9-A895-428E-80D2-12859967B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8896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8800" y="198108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8896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8800" y="4449240"/>
            <a:ext cx="255168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55D78-FED9-4AAD-88CE-EA9761A11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FF83-8F31-4D21-AF52-9152DEC2B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0602-A417-49B0-BCDF-0F1FE9B22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C76-2EBB-47C1-ABE9-159E70CDB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990720"/>
            <a:ext cx="79250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2F43-0E21-4E30-99BE-608102EA9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9A07-56FD-4FEE-9E67-9F5B68F86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44924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88DC-EBB4-4A13-ADB5-411DE6A43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981080"/>
            <a:ext cx="386712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449240"/>
            <a:ext cx="7925040" cy="22536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13EA-06FC-4D2D-A06D-8E9048A3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155DB-1B11-4536-A5FB-38D5341853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48CD-7FB6-4DA5-92FF-8256B893A67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8683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Franklin Gothic Mediu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as intelligente System fü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dezentrale Strom- und Wärm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3" name=""/>
          <p:cNvSpPr/>
          <p:nvPr/>
        </p:nvSpPr>
        <p:spPr>
          <a:xfrm>
            <a:off x="5198760" y="4495680"/>
            <a:ext cx="3157200" cy="151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Fasaneninsel 2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07549 G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Tel. 0365-83040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Franklin Gothic Medium"/>
              </a:rPr>
              <a:t>www.ecopower.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219320" y="3552840"/>
            <a:ext cx="358128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ördermittel nutz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Ökologische Steuerrefor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ine Strom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,05 Cent/kW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tattung Mineralölsteuer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0,55 Cent/kWh (Erdgas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WK-Modernisierungsgesetz (KWKModG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onus: 5,11 Cent/kWh zusätzli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setzlich festgelegten Vergü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insgünstige KfW-Kredite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948280" y="1981080"/>
            <a:ext cx="258624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kosten spar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725" r="0" b="14287"/>
          <a:stretch/>
        </p:blipFill>
        <p:spPr>
          <a:xfrm>
            <a:off x="609480" y="1838160"/>
            <a:ext cx="7925040" cy="48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 ecopower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-, Zwei- und Mehrfamilienhäus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werbe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, Pensionen und Gasthöf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, Gesundheits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, 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rcRect l="0" t="6387" r="0" b="0"/>
          <a:stretch/>
        </p:blipFill>
        <p:spPr>
          <a:xfrm>
            <a:off x="5413320" y="2057400"/>
            <a:ext cx="29955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ortschrittliche und ausgereifte 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dukteigenschaften ecopower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Funktionsweis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nzip der Kraft-Wärme-Kopp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-Verbrennungsmotor treib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nerator zur Stromerzeugung a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ung entstehender Abwärme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eizung und Warmwasserberei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048280" y="1981080"/>
            <a:ext cx="3486240" cy="4205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Hauptkomponent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467840" cy="47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passung der Mini-BH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 an den tatsächlich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produk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irtschaftlicher Einsatz 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Objekten mit geringerem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7089" t="16668" r="11406" b="7691"/>
          <a:stretch/>
        </p:blipFill>
        <p:spPr>
          <a:xfrm>
            <a:off x="4724280" y="1981080"/>
            <a:ext cx="350532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rcRect l="0" t="0" r="0" b="7279"/>
          <a:stretch/>
        </p:blipFill>
        <p:spPr>
          <a:xfrm>
            <a:off x="744480" y="1371600"/>
            <a:ext cx="7637400" cy="525780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normal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dulierendes Mini-BHKW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rcRect l="0" t="0" r="0" b="7176"/>
          <a:stretch/>
        </p:blipFill>
        <p:spPr>
          <a:xfrm>
            <a:off x="755640" y="1371600"/>
            <a:ext cx="7626240" cy="52578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Produktionskurve – monovalenter Betrieb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power Mini-Blockheizkraftwerk (Mini-BHKW)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s und kostensparen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ystem für die dezentral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erzeu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is zu 60% höhere Stromproduktio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t patentierter Leistungsmodulation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manentmagnet-Genera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Wirkungsgrad üb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amten Leistungsbere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gelung Motordrehzahl erfolg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Last des Generator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elektronik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ulsweitenmodulier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as-Verbrennungsmo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triebseinheit des Mini-BHKW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iedrige Emissionswerte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rei-Wege-Katalysator mit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mbda-Rege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anglebige und störungsfreie 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348160" y="1981080"/>
            <a:ext cx="3186360" cy="40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start-Funk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chleißfreier, geräuscharm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 über den Generato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zierte Wartungskos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lasser und Batterie entf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höhte Betriebs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artet unter erschwert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876920" y="1981080"/>
            <a:ext cx="3657600" cy="328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rgänzende Produkteigenschaf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utzerfreundliche Bedien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zielles Wärme-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alldämmgehäus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tspricht höchsten Sicherheit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schriften (CE-Zertifiziert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rallelbetrieb mehrer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16666" t="0" r="18750" b="0"/>
          <a:stretch/>
        </p:blipFill>
        <p:spPr>
          <a:xfrm>
            <a:off x="5330880" y="1981080"/>
            <a:ext cx="320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4724280" y="2054160"/>
            <a:ext cx="3810240" cy="32036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coisland - Insellös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arke Energie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etzfreie Gebie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chere Stromversor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Netz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eignet für Notstrom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weiterter Systemumfa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Bieten Sie Ihren Kunden Mehrwert!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 und schneller Zuga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 einem neuen Geschäftsfeld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 neues Geschäftsfeld für Fachhandwerke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facher, schneller Zugang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ie umfassende Unterstütz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ttbewerbsvorteil: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atentierte 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301464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bindung in die Gebäudetechnik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380880" y="1981080"/>
            <a:ext cx="8382240" cy="4051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Elektrisches Blockschema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0" t="17281" r="0" b="0"/>
          <a:stretch/>
        </p:blipFill>
        <p:spPr>
          <a:xfrm>
            <a:off x="152280" y="1981080"/>
            <a:ext cx="8839440" cy="392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Installation und Inbetriebnahm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3914" r="7692" b="4757"/>
          <a:stretch/>
        </p:blipFill>
        <p:spPr>
          <a:xfrm>
            <a:off x="457200" y="1676520"/>
            <a:ext cx="769608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schich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5-1998 Produktentwicklung (Schweiz)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1999 Beginn der Serienproduktion in Ger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0 Valentin Energie- und Umwelttechnik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2004 PowerPlus Technologies Gmb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799240" y="2057400"/>
            <a:ext cx="27352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Franklin Gothic Medium"/>
              </a:rPr>
              <a:t>Fortschrittliches Steuer- und Regelungssyste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matische Anpassung a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nergiebedarf des Objekte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tegrierte selbstlernfähig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peicherbewirtschaft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e Ausnut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dulationsbereich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r Eigenschu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19481" t="0" r="0" b="0"/>
          <a:stretch/>
        </p:blipFill>
        <p:spPr>
          <a:xfrm>
            <a:off x="4495680" y="2066760"/>
            <a:ext cx="4038840" cy="32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Geringer Wartungsaufwan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 alle 4000 Betrieb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unden bzw. einmal im Ja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chsel von Öl, Filtern und Zünd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erze sowie Abgasmess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mfortable Wartungs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oftware ecoServ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artungsvertrag für höhere Sicherhe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462640" y="1981080"/>
            <a:ext cx="307188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triebsstruktu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der Vertriebsorganis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ammenarbeit mit Vaillan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094360" y="1981080"/>
            <a:ext cx="31352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Serviceorganisatio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ische Service-Hotlin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o – Do 7:00 bis 19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a 10:00 bis 17:00 Uh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Werkskundendienst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örungsbeseitigung, Inbetrieb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hme und Wartungsarbei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78136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Qualitätssicherungsprogramm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ontinuierliche Sich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Produktqualitä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prüfung Produktleist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ter Einsatzbeding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laufende Produktpfleg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9000" t="0" r="33003" b="0"/>
          <a:stretch/>
        </p:blipFill>
        <p:spPr>
          <a:xfrm>
            <a:off x="4896000" y="2200320"/>
            <a:ext cx="333360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erspektiv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bau Fachpartnernetz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e Produktoptimier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 Markterforderniss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schließung neuer Märkt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in Europa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298944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gebiete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eubau Einfamilienhaus mit Schwimmbad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3962520" cy="22100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mmbad für optimalen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rom- und Wärmebedarf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lexibler Einsatz dur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Leistungsmodulatio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llständige Finanzierung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KfW-Kredi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5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3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3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56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52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48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6,5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0" t="5807" r="0" b="7077"/>
          <a:stretch/>
        </p:blipFill>
        <p:spPr>
          <a:xfrm>
            <a:off x="4724280" y="1981080"/>
            <a:ext cx="35053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Modernisierung Zweifamilienhau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oblemlose Ergänzung des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rhandenen Gas-Heizkess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sorgung mehrerer Haushal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sätzlicher Erlös durch Strom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kauf an die Miet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wohnflä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30 m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6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Selbst produzierter Str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4.000 k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Vermiedene Stromkost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1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dem Stromverkau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1.77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kosteneinspar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2.11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~ 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rcRect l="0" t="6796" r="0" b="0"/>
          <a:stretch/>
        </p:blipFill>
        <p:spPr>
          <a:xfrm>
            <a:off x="4724280" y="1981080"/>
            <a:ext cx="3502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Freizeitsektor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5181840" cy="21337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tel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en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tstätt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staurant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2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78,9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22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13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84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09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3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,7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3960" y="4267080"/>
            <a:ext cx="171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Hot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505320" cy="22845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PowerPlus Technologies Gmb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chnologieführer im 5 kW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egment (elektrische Leistung)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er dezentralen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ortschrittliches und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sgereiftes Produkt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undesweiter Vertrieb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über ecopower Fachpartn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410080" y="4267080"/>
            <a:ext cx="3124440" cy="2035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124440" cy="20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Gewerbebetrieb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980720"/>
            <a:ext cx="472464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Bäckerei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ärtnereibetrie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risörgeschäf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arbeitendes Gewerb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tohäuser etc.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28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991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3.44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36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7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938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4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0280" y="426708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Tischler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rcRect l="6817" t="4768" r="7956" b="15436"/>
          <a:stretch/>
        </p:blipFill>
        <p:spPr>
          <a:xfrm>
            <a:off x="4572000" y="1981080"/>
            <a:ext cx="3733920" cy="22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m Gesundheits- und Pflegebereich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09120" y="1981080"/>
            <a:ext cx="5715000" cy="19814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itnessstudios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lege- und Seniorenwohnhei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sundheits- und Therapi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6,7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.014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5.45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8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.309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265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0,8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11560" y="4267080"/>
            <a:ext cx="256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</a:t>
            </a: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Fitnessstud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4873680" y="1981080"/>
            <a:ext cx="160344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  <p:pic>
        <p:nvPicPr>
          <p:cNvPr id="283" name="" descr=""/>
          <p:cNvPicPr/>
          <p:nvPr/>
        </p:nvPicPr>
        <p:blipFill>
          <a:blip r:embed="rId2"/>
          <a:srcRect l="0" t="0" r="14577" b="0"/>
          <a:stretch/>
        </p:blipFill>
        <p:spPr>
          <a:xfrm>
            <a:off x="6705720" y="1981080"/>
            <a:ext cx="1600200" cy="2286000"/>
          </a:xfrm>
          <a:prstGeom prst="rect">
            <a:avLst/>
          </a:prstGeom>
          <a:ln w="28440">
            <a:solidFill>
              <a:srgbClr val="91b1c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insatz in öffentlichen Einrichtung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4876920" cy="205740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ädtische Schwimmbäder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Kindergärten und Gemeindezentr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farrheim und Kirch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ulen und Sporthall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waltungsgebäud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46483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Wärmebedar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943600" y="4648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10,1 MW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4876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Betriebsstunden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4876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.165 h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51055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sparnis durch Stromeigenverbrau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5105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501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09480" y="53341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Erlös aus Stromeinspeisu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943600" y="53341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1.23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09480" y="55627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Rückerstattung Mineralölsteu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5627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657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09480" y="5791320"/>
            <a:ext cx="7925040" cy="228600"/>
          </a:xfrm>
          <a:prstGeom prst="rect">
            <a:avLst/>
          </a:prstGeom>
          <a:solidFill>
            <a:srgbClr val="bcd1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Gesamterlös Mini-BHK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943600" y="57913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4.390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60199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Kosten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43600" y="60199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2.662,- €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6248520"/>
            <a:ext cx="7925040" cy="228600"/>
          </a:xfrm>
          <a:prstGeom prst="rect">
            <a:avLst/>
          </a:prstGeom>
          <a:solidFill>
            <a:srgbClr val="91b1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CO</a:t>
            </a:r>
            <a:r>
              <a:rPr b="1" lang="de-DE" sz="16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-Einsparung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43600" y="6248520"/>
            <a:ext cx="213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Franklin Gothic Medium"/>
              </a:rPr>
              <a:t>7,9 t/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65120" y="4267080"/>
            <a:ext cx="348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Franklin Gothic Medium"/>
              </a:rPr>
              <a:t>Beispiel: Kirchliche Einrichtu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0" t="11363" r="0" b="0"/>
          <a:stretch/>
        </p:blipFill>
        <p:spPr>
          <a:xfrm>
            <a:off x="5029200" y="1981080"/>
            <a:ext cx="3276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ffizient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1143000" y="2209680"/>
            <a:ext cx="6858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als vorteilhafte Alternative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zur getrennten Erzeugung 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Nachhaltige Energieversorgung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gender Energieverbrauch –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inkende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och vorhandene Reserv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n fossilen Energieträger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rdöl - 4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as - 66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teinkohle - 250 Jah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ffiziente Energie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für nachhaltige Entwickl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00600" y="2050920"/>
            <a:ext cx="3657600" cy="25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rcRect l="5882" t="0" r="11764" b="0"/>
          <a:stretch/>
        </p:blipFill>
        <p:spPr>
          <a:xfrm>
            <a:off x="4567320" y="1905120"/>
            <a:ext cx="3967200" cy="419076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Veränderung des Weltklimas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Weiter steigende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reibhausgase führen zu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Aufheizung der Atmosphär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emperaturerhöh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2 bis 5 °C 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eeresspiegel steig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10-90 cm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äufigere Dürren, Stürme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Überschwemmungen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Energie effizienter selbst erzeugen 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6483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reduzieren d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Primärenergieverbrauch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mehr als ein Drittel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Doppelt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eingesetzten Energi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&lt; 1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Hohe Verluste bei konven-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tioneller Energieversorgung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Getrennte Erzeugung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on Strom und Wärm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Franklin Gothic Mediu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Verluste ca. 40%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267080" y="2057400"/>
            <a:ext cx="4267440" cy="30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99072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Franklin Gothic Medium"/>
              </a:rPr>
              <a:t>Direkten Beitrag zum Umweltschutz leisten</a:t>
            </a:r>
            <a:endParaRPr b="1" lang="en-US" sz="24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925040" cy="472464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Mini-BHKWs tragen zum Klima-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nd Ressourcenschutz bei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Nachhaltigere Nutzung der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schwindenden Rohstoffvorräte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Franklin Gothic Mediu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Reduktion der CO</a:t>
            </a:r>
            <a:r>
              <a:rPr b="0" lang="de-DE" sz="2000" spc="-1" strike="noStrike" baseline="-25000">
                <a:solidFill>
                  <a:srgbClr val="000000"/>
                </a:solidFill>
                <a:latin typeface="Franklin Gothic Medium"/>
              </a:rPr>
              <a:t>2</a:t>
            </a: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-Emissionen 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Franklin Gothic Medium"/>
              </a:rPr>
              <a:t>um bis zu 60% möglich</a:t>
            </a:r>
            <a:endParaRPr b="0" lang="en-US" sz="2000" spc="-1" strike="noStrike">
              <a:solidFill>
                <a:srgbClr val="000000"/>
              </a:solidFill>
              <a:latin typeface="Franklin Gothic Medium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5575320" y="1981080"/>
            <a:ext cx="295920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3T08:28:58Z</dcterms:created>
  <dc:creator>Tim Geßler</dc:creator>
  <dc:description/>
  <dc:language>en-US</dc:language>
  <cp:lastModifiedBy>brybicki</cp:lastModifiedBy>
  <dcterms:modified xsi:type="dcterms:W3CDTF">2005-10-27T15:04:05Z</dcterms:modified>
  <cp:revision>69</cp:revision>
  <dc:subject/>
  <dc:title>  </dc:title>
</cp:coreProperties>
</file>